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538-4A6D-486E-A4C5-DE54DF3C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491-836C-4D05-A305-4A15014B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553-811F-48D0-B3DA-83522E2F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85B-2275-434A-9ECE-74CA3490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8B9-0BDB-4151-9298-03A031E5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630-94AC-4BA5-AE1D-11064868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303-5CED-4435-87A7-471983DA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47E-01AB-433E-9F49-48694E1D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165-950D-4E12-AB32-A3A3D268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DAB-9032-4FC9-9DB7-2134CDAF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6FB-F413-46EC-8107-E7710DD3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CB8-2552-473A-86C8-DFF9818D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F8DB-7FBC-4D75-9795-C485CB66C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burger Para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write a re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paragrap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213336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380880" y="1981080"/>
            <a:ext cx="3429000" cy="838440"/>
          </a:xfrm>
          <a:custGeom>
            <a:avLst/>
            <a:gdLst>
              <a:gd name="textAreaLeft" fmla="*/ 54360 w 3429000"/>
              <a:gd name="textAreaRight" fmla="*/ 3374640 w 3429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88310" h="21600">
                <a:moveTo>
                  <a:pt x="0" y="0"/>
                </a:moveTo>
                <a:lnTo>
                  <a:pt x="88310" y="0"/>
                </a:lnTo>
                <a:lnTo>
                  <a:pt x="88310" y="21600"/>
                </a:lnTo>
                <a:lnTo>
                  <a:pt x="0" y="21600"/>
                </a:lnTo>
                <a:close/>
              </a:path>
              <a:path fill="lightenLess" w="88310" h="21600">
                <a:moveTo>
                  <a:pt x="0" y="0"/>
                </a:moveTo>
                <a:lnTo>
                  <a:pt x="88310" y="0"/>
                </a:lnTo>
                <a:lnTo>
                  <a:pt x="86910" y="1400"/>
                </a:lnTo>
                <a:lnTo>
                  <a:pt x="1400" y="1400"/>
                </a:lnTo>
                <a:close/>
              </a:path>
              <a:path fill="darken" w="88310" h="21600">
                <a:moveTo>
                  <a:pt x="88310" y="0"/>
                </a:moveTo>
                <a:lnTo>
                  <a:pt x="88310" y="21600"/>
                </a:lnTo>
                <a:lnTo>
                  <a:pt x="86910" y="20200"/>
                </a:lnTo>
                <a:lnTo>
                  <a:pt x="86910" y="1400"/>
                </a:lnTo>
                <a:close/>
              </a:path>
              <a:path fill="darkenLess" w="88310" h="21600">
                <a:moveTo>
                  <a:pt x="88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10" y="20200"/>
                </a:lnTo>
                <a:close/>
              </a:path>
              <a:path fill="lighten" w="88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895480"/>
            <a:ext cx="2667240" cy="762120"/>
          </a:xfrm>
          <a:custGeom>
            <a:avLst/>
            <a:gdLst>
              <a:gd name="textAreaLeft" fmla="*/ 49320 w 2667240"/>
              <a:gd name="textAreaRight" fmla="*/ 2617920 w 2667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5569" h="21600">
                <a:moveTo>
                  <a:pt x="0" y="0"/>
                </a:moveTo>
                <a:lnTo>
                  <a:pt x="75569" y="0"/>
                </a:lnTo>
                <a:lnTo>
                  <a:pt x="75569" y="21600"/>
                </a:lnTo>
                <a:lnTo>
                  <a:pt x="0" y="21600"/>
                </a:lnTo>
                <a:close/>
              </a:path>
              <a:path fill="lightenLess" w="75569" h="21600">
                <a:moveTo>
                  <a:pt x="0" y="0"/>
                </a:moveTo>
                <a:lnTo>
                  <a:pt x="75569" y="0"/>
                </a:lnTo>
                <a:lnTo>
                  <a:pt x="74169" y="1400"/>
                </a:lnTo>
                <a:lnTo>
                  <a:pt x="1400" y="1400"/>
                </a:lnTo>
                <a:close/>
              </a:path>
              <a:path fill="darken" w="75569" h="21600">
                <a:moveTo>
                  <a:pt x="75569" y="0"/>
                </a:moveTo>
                <a:lnTo>
                  <a:pt x="75569" y="21600"/>
                </a:lnTo>
                <a:lnTo>
                  <a:pt x="74169" y="20200"/>
                </a:lnTo>
                <a:lnTo>
                  <a:pt x="74169" y="1400"/>
                </a:lnTo>
                <a:close/>
              </a:path>
              <a:path fill="darkenLess" w="75569" h="21600">
                <a:moveTo>
                  <a:pt x="7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69" y="20200"/>
                </a:lnTo>
                <a:close/>
              </a:path>
              <a:path fill="lighten" w="7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3962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343400"/>
            <a:ext cx="3276720" cy="838080"/>
          </a:xfrm>
          <a:custGeom>
            <a:avLst/>
            <a:gdLst>
              <a:gd name="textAreaLeft" fmla="*/ 54000 w 3276720"/>
              <a:gd name="textAreaRight" fmla="*/ 3222720 w 3276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4425" h="21600">
                <a:moveTo>
                  <a:pt x="0" y="0"/>
                </a:moveTo>
                <a:lnTo>
                  <a:pt x="84425" y="0"/>
                </a:lnTo>
                <a:lnTo>
                  <a:pt x="84425" y="21600"/>
                </a:lnTo>
                <a:lnTo>
                  <a:pt x="0" y="21600"/>
                </a:lnTo>
                <a:close/>
              </a:path>
              <a:path fill="lightenLess" w="84425" h="21600">
                <a:moveTo>
                  <a:pt x="0" y="0"/>
                </a:moveTo>
                <a:lnTo>
                  <a:pt x="84425" y="0"/>
                </a:lnTo>
                <a:lnTo>
                  <a:pt x="83025" y="1400"/>
                </a:lnTo>
                <a:lnTo>
                  <a:pt x="1400" y="1400"/>
                </a:lnTo>
                <a:close/>
              </a:path>
              <a:path fill="darken" w="84425" h="21600">
                <a:moveTo>
                  <a:pt x="84425" y="0"/>
                </a:moveTo>
                <a:lnTo>
                  <a:pt x="84425" y="21600"/>
                </a:lnTo>
                <a:lnTo>
                  <a:pt x="83025" y="20200"/>
                </a:lnTo>
                <a:lnTo>
                  <a:pt x="83025" y="1400"/>
                </a:lnTo>
                <a:close/>
              </a:path>
              <a:path fill="darkenLess" w="84425" h="21600">
                <a:moveTo>
                  <a:pt x="84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025" y="20200"/>
                </a:lnTo>
                <a:close/>
              </a:path>
              <a:path fill="lighten" w="84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5257800" cy="99072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4598" h="21600">
                <a:moveTo>
                  <a:pt x="0" y="0"/>
                </a:moveTo>
                <a:lnTo>
                  <a:pt x="114598" y="0"/>
                </a:lnTo>
                <a:lnTo>
                  <a:pt x="114598" y="21600"/>
                </a:lnTo>
                <a:lnTo>
                  <a:pt x="0" y="21600"/>
                </a:lnTo>
                <a:close/>
              </a:path>
              <a:path fill="lightenLess" w="114598" h="21600">
                <a:moveTo>
                  <a:pt x="0" y="0"/>
                </a:moveTo>
                <a:lnTo>
                  <a:pt x="114598" y="0"/>
                </a:lnTo>
                <a:lnTo>
                  <a:pt x="113199" y="1400"/>
                </a:lnTo>
                <a:lnTo>
                  <a:pt x="1400" y="1400"/>
                </a:lnTo>
                <a:close/>
              </a:path>
              <a:path fill="darken" w="114598" h="21600">
                <a:moveTo>
                  <a:pt x="114598" y="0"/>
                </a:moveTo>
                <a:lnTo>
                  <a:pt x="114598" y="21600"/>
                </a:lnTo>
                <a:lnTo>
                  <a:pt x="113199" y="20200"/>
                </a:lnTo>
                <a:lnTo>
                  <a:pt x="113199" y="1400"/>
                </a:lnTo>
                <a:close/>
              </a:path>
              <a:path fill="darkenLess" w="114598" h="21600">
                <a:moveTo>
                  <a:pt x="114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199" y="20200"/>
                </a:lnTo>
                <a:close/>
              </a:path>
              <a:path fill="lighten" w="114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4680" y="5915160"/>
            <a:ext cx="1219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ick on me to learn about good paragrap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2242" t="23062" r="12242" b="25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opic Sentence (Top Bu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first sentence of your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way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eeds to be ind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lls what your paragraph is going to be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160020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1676520"/>
            <a:ext cx="38862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There are many reasons that I love to teac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 First of all, I love to teach because I love being at school.  Another reason I love teaching is that the days go by quickly.  A third reason I love to teach is because I love seeing a student understand something new. Finally, I love to teach because I love to be around kids.  These are just a few reasons I love to tea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0" y="6248520"/>
            <a:ext cx="9144000" cy="380880"/>
          </a:xfrm>
          <a:custGeom>
            <a:avLst/>
            <a:gdLst>
              <a:gd name="textAreaLeft" fmla="*/ 24480 w 9144000"/>
              <a:gd name="textAreaRight" fmla="*/ 9119520 w 9144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094" h="21600">
                <a:moveTo>
                  <a:pt x="0" y="0"/>
                </a:moveTo>
                <a:lnTo>
                  <a:pt x="518094" y="0"/>
                </a:lnTo>
                <a:lnTo>
                  <a:pt x="518094" y="21600"/>
                </a:lnTo>
                <a:lnTo>
                  <a:pt x="0" y="21600"/>
                </a:lnTo>
                <a:close/>
              </a:path>
              <a:path fill="lightenLess" w="518094" h="21600">
                <a:moveTo>
                  <a:pt x="0" y="0"/>
                </a:moveTo>
                <a:lnTo>
                  <a:pt x="518094" y="0"/>
                </a:lnTo>
                <a:lnTo>
                  <a:pt x="516694" y="1400"/>
                </a:lnTo>
                <a:lnTo>
                  <a:pt x="1400" y="1400"/>
                </a:lnTo>
                <a:close/>
              </a:path>
              <a:path fill="darken" w="518094" h="21600">
                <a:moveTo>
                  <a:pt x="518094" y="0"/>
                </a:moveTo>
                <a:lnTo>
                  <a:pt x="518094" y="21600"/>
                </a:lnTo>
                <a:lnTo>
                  <a:pt x="516694" y="20200"/>
                </a:lnTo>
                <a:lnTo>
                  <a:pt x="516694" y="1400"/>
                </a:lnTo>
                <a:close/>
              </a:path>
              <a:path fill="darkenLess" w="518094" h="21600">
                <a:moveTo>
                  <a:pt x="51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94" y="20200"/>
                </a:lnTo>
                <a:close/>
              </a:path>
              <a:path fill="lighten" w="51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return to the hambu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38080" y="0"/>
            <a:ext cx="7315200" cy="6842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irst Detail (Lettu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the most important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s to follow directly after the topic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s to be full of good “lettucy”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1600200"/>
            <a:ext cx="403848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are many reasons that I love to teach.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rst of all, I love to teach because I love being at scho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Another reason I love teaching is that the days go by quickly.  A third reason I love to teach is because I love seeing a student understand something new. Finally, I love to teach because I love to be around kids.  These are just a few reasons I love to tea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0" y="6248520"/>
            <a:ext cx="9144000" cy="380880"/>
          </a:xfrm>
          <a:custGeom>
            <a:avLst/>
            <a:gdLst>
              <a:gd name="textAreaLeft" fmla="*/ 24480 w 9144000"/>
              <a:gd name="textAreaRight" fmla="*/ 9119520 w 9144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094" h="21600">
                <a:moveTo>
                  <a:pt x="0" y="0"/>
                </a:moveTo>
                <a:lnTo>
                  <a:pt x="518094" y="0"/>
                </a:lnTo>
                <a:lnTo>
                  <a:pt x="518094" y="21600"/>
                </a:lnTo>
                <a:lnTo>
                  <a:pt x="0" y="21600"/>
                </a:lnTo>
                <a:close/>
              </a:path>
              <a:path fill="lightenLess" w="518094" h="21600">
                <a:moveTo>
                  <a:pt x="0" y="0"/>
                </a:moveTo>
                <a:lnTo>
                  <a:pt x="518094" y="0"/>
                </a:lnTo>
                <a:lnTo>
                  <a:pt x="516694" y="1400"/>
                </a:lnTo>
                <a:lnTo>
                  <a:pt x="1400" y="1400"/>
                </a:lnTo>
                <a:close/>
              </a:path>
              <a:path fill="darken" w="518094" h="21600">
                <a:moveTo>
                  <a:pt x="518094" y="0"/>
                </a:moveTo>
                <a:lnTo>
                  <a:pt x="518094" y="21600"/>
                </a:lnTo>
                <a:lnTo>
                  <a:pt x="516694" y="20200"/>
                </a:lnTo>
                <a:lnTo>
                  <a:pt x="516694" y="1400"/>
                </a:lnTo>
                <a:close/>
              </a:path>
              <a:path fill="darkenLess" w="518094" h="21600">
                <a:moveTo>
                  <a:pt x="51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94" y="20200"/>
                </a:lnTo>
                <a:close/>
              </a:path>
              <a:path fill="lighten" w="51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return to the hambu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econd Detail (Toma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ill shoul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 the most important de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to follow directly after the lettuc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to be full of good “juicy” detai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1600200"/>
            <a:ext cx="40384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are many reasons that I love to teach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of all, I love to teach because I love being at scho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Another reason I love teaching is that the days go by quickl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 A third reason I love to teach is because I love seeing a student understand something new. Finally, I love to teach because I love to be around kids.  These are just a few reasons I love to tea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0" y="6248520"/>
            <a:ext cx="9144000" cy="380880"/>
          </a:xfrm>
          <a:custGeom>
            <a:avLst/>
            <a:gdLst>
              <a:gd name="textAreaLeft" fmla="*/ 24480 w 9144000"/>
              <a:gd name="textAreaRight" fmla="*/ 9119520 w 9144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094" h="21600">
                <a:moveTo>
                  <a:pt x="0" y="0"/>
                </a:moveTo>
                <a:lnTo>
                  <a:pt x="518094" y="0"/>
                </a:lnTo>
                <a:lnTo>
                  <a:pt x="518094" y="21600"/>
                </a:lnTo>
                <a:lnTo>
                  <a:pt x="0" y="21600"/>
                </a:lnTo>
                <a:close/>
              </a:path>
              <a:path fill="lightenLess" w="518094" h="21600">
                <a:moveTo>
                  <a:pt x="0" y="0"/>
                </a:moveTo>
                <a:lnTo>
                  <a:pt x="518094" y="0"/>
                </a:lnTo>
                <a:lnTo>
                  <a:pt x="516694" y="1400"/>
                </a:lnTo>
                <a:lnTo>
                  <a:pt x="1400" y="1400"/>
                </a:lnTo>
                <a:close/>
              </a:path>
              <a:path fill="darken" w="518094" h="21600">
                <a:moveTo>
                  <a:pt x="518094" y="0"/>
                </a:moveTo>
                <a:lnTo>
                  <a:pt x="518094" y="21600"/>
                </a:lnTo>
                <a:lnTo>
                  <a:pt x="516694" y="20200"/>
                </a:lnTo>
                <a:lnTo>
                  <a:pt x="516694" y="1400"/>
                </a:lnTo>
                <a:close/>
              </a:path>
              <a:path fill="darkenLess" w="518094" h="21600">
                <a:moveTo>
                  <a:pt x="51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94" y="20200"/>
                </a:lnTo>
                <a:close/>
              </a:path>
              <a:path fill="lighten" w="51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return to the hambu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64686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hird Detail (Chee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ill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 the most important de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to start differently than other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to be full of good “cheesy” detai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1600200"/>
            <a:ext cx="40384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are many reasons that I love to teach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of all, I love to teach because I love being at scho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Another reason I love teaching is that the days go by quickly.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A third reason I love to teach is because I love seeing a student understand something ne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Finally, I love to teach because I love to be around kids.  These are just a few reasons I love to tea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0" y="6248520"/>
            <a:ext cx="9144000" cy="380880"/>
          </a:xfrm>
          <a:custGeom>
            <a:avLst/>
            <a:gdLst>
              <a:gd name="textAreaLeft" fmla="*/ 24480 w 9144000"/>
              <a:gd name="textAreaRight" fmla="*/ 9119520 w 9144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094" h="21600">
                <a:moveTo>
                  <a:pt x="0" y="0"/>
                </a:moveTo>
                <a:lnTo>
                  <a:pt x="518094" y="0"/>
                </a:lnTo>
                <a:lnTo>
                  <a:pt x="518094" y="21600"/>
                </a:lnTo>
                <a:lnTo>
                  <a:pt x="0" y="21600"/>
                </a:lnTo>
                <a:close/>
              </a:path>
              <a:path fill="lightenLess" w="518094" h="21600">
                <a:moveTo>
                  <a:pt x="0" y="0"/>
                </a:moveTo>
                <a:lnTo>
                  <a:pt x="518094" y="0"/>
                </a:lnTo>
                <a:lnTo>
                  <a:pt x="516694" y="1400"/>
                </a:lnTo>
                <a:lnTo>
                  <a:pt x="1400" y="1400"/>
                </a:lnTo>
                <a:close/>
              </a:path>
              <a:path fill="darken" w="518094" h="21600">
                <a:moveTo>
                  <a:pt x="518094" y="0"/>
                </a:moveTo>
                <a:lnTo>
                  <a:pt x="518094" y="21600"/>
                </a:lnTo>
                <a:lnTo>
                  <a:pt x="516694" y="20200"/>
                </a:lnTo>
                <a:lnTo>
                  <a:pt x="516694" y="1400"/>
                </a:lnTo>
                <a:close/>
              </a:path>
              <a:path fill="darkenLess" w="518094" h="21600">
                <a:moveTo>
                  <a:pt x="51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94" y="20200"/>
                </a:lnTo>
                <a:close/>
              </a:path>
              <a:path fill="lighten" w="51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return to the hambu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12085" t="21428" r="8293" b="0"/>
          <a:stretch/>
        </p:blipFill>
        <p:spPr>
          <a:xfrm>
            <a:off x="0" y="-3816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ast Detail (Mea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ally!!  The most important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uld start differently than most of the other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be full of good “meaty”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1600200"/>
            <a:ext cx="40384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are many reasons that I love to teach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of all, I love to teach because I love being at scho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Another reason I love teaching is that the days go by quickly.  A third reason I love to teach is because I love seeing a student understand something new.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Finally, I love to teach because I love to be around kid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 These are just a few reasons I love to tea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0" y="6248520"/>
            <a:ext cx="9144000" cy="380880"/>
          </a:xfrm>
          <a:custGeom>
            <a:avLst/>
            <a:gdLst>
              <a:gd name="textAreaLeft" fmla="*/ 24480 w 9144000"/>
              <a:gd name="textAreaRight" fmla="*/ 9119520 w 9144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094" h="21600">
                <a:moveTo>
                  <a:pt x="0" y="0"/>
                </a:moveTo>
                <a:lnTo>
                  <a:pt x="518094" y="0"/>
                </a:lnTo>
                <a:lnTo>
                  <a:pt x="518094" y="21600"/>
                </a:lnTo>
                <a:lnTo>
                  <a:pt x="0" y="21600"/>
                </a:lnTo>
                <a:close/>
              </a:path>
              <a:path fill="lightenLess" w="518094" h="21600">
                <a:moveTo>
                  <a:pt x="0" y="0"/>
                </a:moveTo>
                <a:lnTo>
                  <a:pt x="518094" y="0"/>
                </a:lnTo>
                <a:lnTo>
                  <a:pt x="516694" y="1400"/>
                </a:lnTo>
                <a:lnTo>
                  <a:pt x="1400" y="1400"/>
                </a:lnTo>
                <a:close/>
              </a:path>
              <a:path fill="darken" w="518094" h="21600">
                <a:moveTo>
                  <a:pt x="518094" y="0"/>
                </a:moveTo>
                <a:lnTo>
                  <a:pt x="518094" y="21600"/>
                </a:lnTo>
                <a:lnTo>
                  <a:pt x="516694" y="20200"/>
                </a:lnTo>
                <a:lnTo>
                  <a:pt x="516694" y="1400"/>
                </a:lnTo>
                <a:close/>
              </a:path>
              <a:path fill="darkenLess" w="518094" h="21600">
                <a:moveTo>
                  <a:pt x="51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94" y="20200"/>
                </a:lnTo>
                <a:close/>
              </a:path>
              <a:path fill="lighten" w="51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return to the hambu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12242" t="23062" r="12242" b="25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Closing Senten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Bottom Bu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look a lot like the topic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to summarize the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to be an obvious end to th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152388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1752480"/>
            <a:ext cx="40384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are many reasons that I love to teach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of all, I love to teach because I love being at scho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Another reason I love teaching is that the days go by quickly.  A third reason I love to teach is because I love seeing a student understand something new. Finally, I love to teach because I love to be around kids.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These are just a few reasons I love to teac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248520"/>
            <a:ext cx="9144000" cy="380880"/>
          </a:xfrm>
          <a:custGeom>
            <a:avLst/>
            <a:gdLst>
              <a:gd name="textAreaLeft" fmla="*/ 24480 w 9144000"/>
              <a:gd name="textAreaRight" fmla="*/ 9119520 w 9144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094" h="21600">
                <a:moveTo>
                  <a:pt x="0" y="0"/>
                </a:moveTo>
                <a:lnTo>
                  <a:pt x="518094" y="0"/>
                </a:lnTo>
                <a:lnTo>
                  <a:pt x="518094" y="21600"/>
                </a:lnTo>
                <a:lnTo>
                  <a:pt x="0" y="21600"/>
                </a:lnTo>
                <a:close/>
              </a:path>
              <a:path fill="lightenLess" w="518094" h="21600">
                <a:moveTo>
                  <a:pt x="0" y="0"/>
                </a:moveTo>
                <a:lnTo>
                  <a:pt x="518094" y="0"/>
                </a:lnTo>
                <a:lnTo>
                  <a:pt x="516694" y="1400"/>
                </a:lnTo>
                <a:lnTo>
                  <a:pt x="1400" y="1400"/>
                </a:lnTo>
                <a:close/>
              </a:path>
              <a:path fill="darken" w="518094" h="21600">
                <a:moveTo>
                  <a:pt x="518094" y="0"/>
                </a:moveTo>
                <a:lnTo>
                  <a:pt x="518094" y="21600"/>
                </a:lnTo>
                <a:lnTo>
                  <a:pt x="516694" y="20200"/>
                </a:lnTo>
                <a:lnTo>
                  <a:pt x="516694" y="1400"/>
                </a:lnTo>
                <a:close/>
              </a:path>
              <a:path fill="darkenLess" w="518094" h="21600">
                <a:moveTo>
                  <a:pt x="51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94" y="20200"/>
                </a:lnTo>
                <a:close/>
              </a:path>
              <a:path fill="lighten" w="51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see a good paragraph on the we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48:17Z</dcterms:created>
  <dc:creator>p1017404</dc:creator>
  <dc:description/>
  <dc:language>en-US</dc:language>
  <cp:lastModifiedBy>Teacher</cp:lastModifiedBy>
  <dcterms:modified xsi:type="dcterms:W3CDTF">2008-10-23T13:23:06Z</dcterms:modified>
  <cp:revision>8</cp:revision>
  <dc:subject/>
  <dc:title>Hamburger Paragraphs</dc:title>
</cp:coreProperties>
</file>